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6D9-CB81-485B-8BE1-2A0ED18D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95E-6CF6-4DE9-8A28-676E387D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858-B50A-4DD9-ADFF-81B9B2DB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00DC-8EE1-4683-9EA3-C0D696C6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360A-7DCC-49E1-9A0A-9B2538E6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EC61-D4B6-4FE9-BD14-99D6D338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8DCE-1BC6-4CB1-926D-BF1FD5AC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EDCF-ED49-4F78-9D5E-E131FDE2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6A6-62C8-475F-948B-DDAA31A8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E64-102E-42A8-A856-DEB13465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6BD-AF7B-4464-8A05-968B7E42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38B-BEE7-48B9-80F3-149A8502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AF35-4C43-4DC5-9723-A2C06DCD1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zpravodaj.genderstudies.cz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nderstudies.cz/" TargetMode="External"/><Relationship Id="rId2" Type="http://schemas.openxmlformats.org/officeDocument/2006/relationships/hyperlink" Target="http://www.genderstudies.cz/" TargetMode="External"/><Relationship Id="rId3" Type="http://schemas.openxmlformats.org/officeDocument/2006/relationships/hyperlink" Target="http://zpravodaj.genderstudies.cz/" TargetMode="External"/><Relationship Id="rId4" Type="http://schemas.openxmlformats.org/officeDocument/2006/relationships/hyperlink" Target="http://www.rovneprilezitosti.cz/" TargetMode="External"/><Relationship Id="rId5" Type="http://schemas.openxmlformats.org/officeDocument/2006/relationships/hyperlink" Target="http://www.rovneprilezitosti.ecn.cz/" TargetMode="External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vné příležitosti žen a mužů v ESF projektech Gender Studies, o.p.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r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ina Bosničov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7.07.2011 MPSV Č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1486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„sociální pohlaví“ - něco, co není „od přírody“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(vs. biologické pohlaví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vyjadřuje, že vlastnosti a chování spojované s muži a ženami jsou formovány kulturou a společností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konstruktivismus vs. esencialismu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derová rovnost/ RP žen a muž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znamená stejnost mužů a ž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amená, že ženy a muži by měli mít v životě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vné příležit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zi muži a ženami existuje řada rozdílů, ale tyto rozdíly nesmí být důvodem a základem jakékol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krimin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 společnos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ová rovnost zakotvena 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slativě ČR a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působ myšle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louhodobá záležitos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nderové stereoty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edstavy o tom, jaké a jací mají ženy a muži být, a jak se mají chov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de se s genderovými stereotypy (a diskriminací na základě pohlaví) často setkávám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Trh práce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ábor a propouštění, vzdělávání a kariérní postup, vertikální a horizontální segregace pracovního trhu, slaďování osobního a pracovního života, genderový mzdový rozdíl, atd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li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Mé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Jazyk – generické maskulin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Rodinný život (dělba práce, rodičovstv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Vzdělávácí systém (učebn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ak Gender Studies pracuje s genderem v rámci ESF projektů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lexní klíčové aktivity zaměřené n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šechny cílové skupi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visející s pracovním trhem (zaměstnavatelé, zaměstnaní – s  důrazem na tzv. ohrožené cílové skupiny – ((budoucí) rodiče malých dětí, matky (a otcové) po rodičovské dovolené, lidé 50+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der Mainstreaming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říklady aktivit zaměřených na zaměstnavatel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ZITIVNÍ MOTIVAC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eně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ma roku: Rovné příležitosti a Úřad roku Půl na pů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iz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derových audi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SVĚ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adenstv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firmy v oblasti podpory rovných příležitostí a slaďování osobního a pracovního života formou osobních, telefonických a e-mailových konzultac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Škole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firmy a úřady šitá na míru v různých oblastech souvisejících s genderem (gender a marketing, firemní školky, atd.) – pro management i celoplošn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emin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ktronickéh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ěsíčník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vné příležitosti do firem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zpravodaj.genderstudies.c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 a jeho speciálních tištěných vyd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vorba a vydávání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ávních expertíz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aktických manuál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vízů a 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manažery a manažer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řádání (mezinárodních) konferencí, kulatých stolů pro fir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MPANĚ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jiné PR materiá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říklady aktivit zaměřených na ohrožené cílové skupi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ávní poradna „Půl na půl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elefonická, online, osob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ihovna a informační centr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droj informac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Škole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šitá na míru, např. pro  mateřská centra, kde se cílová skupina „zdržuj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vorba a vydávání praktických manuálů a poradců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př. „Nenechte se diskriminovat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ydávání novin „Půl na půl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i příležitosti oslav Mezinárodního dne rov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řádání konferencí, workshop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MPAN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jiné PR materiál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ěkuji za pozornos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ina.bosnicova@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24 915 6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zpravodaj.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rovneprilezitosti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rovneprilezitosti.ecn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7:43:36Z</dcterms:created>
  <dc:creator>Medvedici</dc:creator>
  <dc:description/>
  <dc:language>en-US</dc:language>
  <cp:lastModifiedBy>nina</cp:lastModifiedBy>
  <dcterms:modified xsi:type="dcterms:W3CDTF">2011-07-26T07:39:42Z</dcterms:modified>
  <cp:revision>140</cp:revision>
  <dc:subject/>
  <dc:title>Prolomte genderové stereotypy. Dejte talentu šanci.</dc:title>
</cp:coreProperties>
</file>